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B3F-D466-421C-80D0-5D859469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598-98A2-4B0C-8E6D-DD649D7D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FE4-9F5A-44FA-97F4-E57CBA9E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7DA-A0E3-420D-B236-3CE7E22F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78B-28D7-42BC-85C8-C35E1352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B70-9D5F-4855-835B-6630C8D1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272-2ADF-439B-BD21-86A2B8D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3C7-CF54-4592-97A2-231AD98E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BF8-5629-4D13-B485-7887C00B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130-BE15-4C2B-B46D-1D42124B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B84-11B4-4142-A06C-680C7771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98F-0B56-4F43-A8E2-64CD7356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AC79-3B6A-486A-8332-64823FB65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66294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4876920"/>
            <a:ext cx="2057400" cy="13716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209680"/>
            <a:ext cx="2133720" cy="19051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10080" y="5334120"/>
            <a:ext cx="27432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724280"/>
            <a:ext cx="1600200" cy="1219320"/>
          </a:xfrm>
          <a:prstGeom prst="diamond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1066680"/>
            <a:ext cx="1752480" cy="6858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5190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5627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16/60 + 14/60 + 12/60 +10/60 + 8/60 = 60/60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410080"/>
            <a:ext cx="4267080" cy="120276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lue = 4/15               Yellow = 7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reen = 1/5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Purple =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ed = 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0596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0292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/80 + 2/80 + 3/80 + 4/80 +5/80 + 6/80 + 7/80 + 8/80 + 8/80 + 8/80 + 7/80 + 6/80 + 5/80 + 4/80 + 3/80 + 2/80 + 1/80 = 80/80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4724280"/>
            <a:ext cx="5562720" cy="192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rown = 1/80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avy = 1/4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t. Blue = 3/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range = 1/20              Red = 1/16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Violet = 3/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urquoise = 7/8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Yellow = 1/1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agenta = 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reen = 1/1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lue = 7/8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uschia = 3/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t. Yellow = 1/16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t. Green = 1/2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k. Purple = 3/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k. Green = 1/4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urple = 1/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745480" cy="519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56386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65/78 + 13/78 = 78/78   =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5715000"/>
            <a:ext cx="2361960" cy="7855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ange =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lack =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6054"/>
          <a:stretch/>
        </p:blipFill>
        <p:spPr>
          <a:xfrm>
            <a:off x="228600" y="533520"/>
            <a:ext cx="8745480" cy="487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5638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/161 + 9/161 + 10/161 + 13/161 + 15/161 +14/161 + 5/161 + 21/161 + 9/161 + 3/161 + 5/161 + 6/161 +10/161 + 10/161 + 10/161 + 5/161 + 5/16 = 161/161 =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8:06:36Z</dcterms:created>
  <dc:creator>Patrick Mooney</dc:creator>
  <dc:description/>
  <dc:language>en-US</dc:language>
  <cp:lastModifiedBy>Patrick Mooney</cp:lastModifiedBy>
  <dcterms:modified xsi:type="dcterms:W3CDTF">2009-10-15T14:29:48Z</dcterms:modified>
  <cp:revision>6</cp:revision>
  <dc:subject/>
  <dc:title>Slide 1</dc:title>
</cp:coreProperties>
</file>